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2C0B-6073-4BAD-83A9-2112BAFA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6188-3815-46AE-A8EA-62FA9E92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EA6-5E89-4DF5-994E-A5567DDB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4D57-9C31-447A-BC46-05F0CB01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F5D3-3418-471F-AAAD-246C75DF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814A-5E92-453C-8BF7-014CE7AE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E235-8FF9-462C-BDBC-A2058300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B02-7D9D-45A9-9D53-9171E910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ED1B-9975-4155-9D7B-5429DC3E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D408-DFED-4396-B284-E97DD31B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3263-E795-48FD-BB91-3646A3AB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CF90-21E6-43B0-A6B9-67858A78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5320-5D38-46E8-9F81-80C555D9D5D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he Pass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Exerc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00040" y="1499760"/>
            <a:ext cx="514368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1. They are building a new highway around the 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2. They have built a new hospital near the air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857920" y="2071800"/>
            <a:ext cx="304308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285840" y="2000160"/>
            <a:ext cx="8643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When we got to the stadium, we found that the game had been cance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A new highway is being built (by them*) around the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A new hospital has been built near the air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357120" y="10000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 When we got to the stadiu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found that they had cancelled the g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497196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3. Diana and Alba didn’t realise that somebody was recording their conversation.</a:t>
            </a:r>
            <a:br>
              <a:rPr sz="2800"/>
            </a:br>
            <a:br>
              <a:rPr sz="2800"/>
            </a:br>
            <a:r>
              <a:rPr b="0" i="1" lang="en-GB" sz="2800" spc="-1" strike="noStrike">
                <a:solidFill>
                  <a:srgbClr val="0070c0"/>
                </a:solidFill>
                <a:latin typeface="Calibri"/>
              </a:rPr>
              <a:t>They didn’t realise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3928680"/>
            <a:ext cx="8472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dier was writing a message on Patricio’s Facebook wall when Sergey call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5. Will Alba buy the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Hellowe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Limited Edition album this weeke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572080" y="285840"/>
            <a:ext cx="3357720" cy="3357360"/>
          </a:xfrm>
          <a:prstGeom prst="rect">
            <a:avLst/>
          </a:prstGeom>
          <a:ln w="0">
            <a:noFill/>
          </a:ln>
        </p:spPr>
      </p:pic>
      <p:sp>
        <p:nvSpPr>
          <p:cNvPr id="71" name="4 CuadroTexto"/>
          <p:cNvSpPr/>
          <p:nvPr/>
        </p:nvSpPr>
        <p:spPr>
          <a:xfrm>
            <a:off x="3500280" y="571680"/>
            <a:ext cx="53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... that their conversation was being recor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5 CuadroTexto"/>
          <p:cNvSpPr/>
          <p:nvPr/>
        </p:nvSpPr>
        <p:spPr>
          <a:xfrm>
            <a:off x="285840" y="3786120"/>
            <a:ext cx="8643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Sergey called when a message was being written (by Edier) on Patricio’s Facebook w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504d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Sergey called when Patricio’s Facebook wall was being written by Ed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Will the </a:t>
            </a:r>
            <a:r>
              <a:rPr b="0" i="1" lang="en-GB" sz="2000" spc="-1" strike="noStrike">
                <a:solidFill>
                  <a:srgbClr val="0070c0"/>
                </a:solidFill>
                <a:latin typeface="Arial"/>
              </a:rPr>
              <a:t>Helloween Limited Edition </a:t>
            </a: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album be bought by Alba this week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16 -0.00925 L -0.13681 -0.25856 E">
                                      <p:cBhvr>
                                        <p:cTn id="9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6615 L -0.00017 -0.39917 E">
                                      <p:cBhvr>
                                        <p:cTn id="104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66235E-006 L 2.5E-006 -0.33302 E">
                                      <p:cBhvr>
                                        <p:cTn id="10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ead the sentence and choose the option which best fits the space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 Concert tickets ……….. at the box offi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. being so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b. are being so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c. are be so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. are being s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Following yesterday's accident, 3 people are still ………………. for minor injur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. tre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b. being trea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c. trea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. being tre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Your suit is not ready yet. It ………….. right n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. is being clea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b. is being clea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c. is been clea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. is clea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. I could not use my car yesterday because it ……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. was being repa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b. were being repa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c. was being repai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. was been repa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He left the room while the money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. has being coll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b. was been coll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. was being coll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. was being collec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We couldn't use the bathroom while it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. was been clea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b. was being clea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. is being clea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. was clea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entence completion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the words in red to complete the passive continuous sentenc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2 words in each box which you do not need to u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7120" y="15717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 I couldn't wear my T-shirt yesterday because 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cleaned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was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it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clean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been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be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My brother is in hospital - ... for a chest infe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has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is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treat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be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treate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h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... for the new restaura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taken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reservations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tak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ar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is   be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. ... taken online by students all over the worl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be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this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it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cours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been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. We had to stay in a hotel while 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our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was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hous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  has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decorated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been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be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. ... about the missing blackboar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was 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students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thre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are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questione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question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be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Rewrite these sentences. Instead of using somebody/they/people, etc., write a passive sentence.</a:t>
            </a: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600200"/>
            <a:ext cx="814392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0. Somebody cleans the room every 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. Cristina has cleaned her ro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. They cancelled all flights because of the volcano ash clou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70c0"/>
                </a:solidFill>
                <a:latin typeface="Calibri"/>
              </a:rPr>
              <a:t>              </a:t>
            </a:r>
            <a:r>
              <a:rPr b="0" i="1" lang="en-GB" sz="2400" spc="-1" strike="noStrike">
                <a:solidFill>
                  <a:srgbClr val="0070c0"/>
                </a:solidFill>
                <a:latin typeface="Calibri"/>
              </a:rPr>
              <a:t>All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894200" y="4000680"/>
            <a:ext cx="3821040" cy="2550960"/>
          </a:xfrm>
          <a:prstGeom prst="rect">
            <a:avLst/>
          </a:prstGeom>
          <a:ln w="0">
            <a:noFill/>
          </a:ln>
        </p:spPr>
      </p:pic>
      <p:sp>
        <p:nvSpPr>
          <p:cNvPr id="56" name="4 CuadroTexto"/>
          <p:cNvSpPr/>
          <p:nvPr/>
        </p:nvSpPr>
        <p:spPr>
          <a:xfrm>
            <a:off x="928800" y="4214880"/>
            <a:ext cx="728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The room is cleaned every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The room has been cleaned by Crist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All flights were cancelled because of the volcano ash clou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6840" y="857160"/>
            <a:ext cx="43290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3. People don’t use this road very oft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4. Somebody accused me of stealing money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n-GB" sz="2800" spc="-1" strike="noStrike">
                <a:solidFill>
                  <a:srgbClr val="0070c0"/>
                </a:solidFill>
                <a:latin typeface="Calibri"/>
              </a:rPr>
              <a:t>I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5. How do people learn languages? </a:t>
            </a:r>
            <a:r>
              <a:rPr b="0" i="1" lang="en-GB" sz="2800" spc="-1" strike="noStrike">
                <a:solidFill>
                  <a:srgbClr val="0070c0"/>
                </a:solidFill>
                <a:latin typeface="Calibri"/>
              </a:rPr>
              <a:t>How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6. Our mothers warned us not to go out al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929120" y="2571840"/>
            <a:ext cx="3890880" cy="3130560"/>
          </a:xfrm>
          <a:prstGeom prst="rect">
            <a:avLst/>
          </a:prstGeom>
          <a:ln w="0">
            <a:noFill/>
          </a:ln>
        </p:spPr>
      </p:pic>
      <p:sp>
        <p:nvSpPr>
          <p:cNvPr id="59" name="4 CuadroTexto"/>
          <p:cNvSpPr/>
          <p:nvPr/>
        </p:nvSpPr>
        <p:spPr>
          <a:xfrm>
            <a:off x="3357720" y="1357200"/>
            <a:ext cx="6000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This road isn’t used very of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I was accused (by somebody)of stealing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How are languages lear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We were warned by our mothers not to go out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85880" y="999720"/>
            <a:ext cx="81439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7. Gerard lost his watch at the Soziedad Alkoholika conce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8. Somebody is using the computer at the mo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0" i="1" lang="en-GB" sz="2400" spc="-1" strike="noStrike">
                <a:solidFill>
                  <a:srgbClr val="0070c0"/>
                </a:solidFill>
                <a:latin typeface="Calibri"/>
              </a:rPr>
              <a:t>The computer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368960" y="3894120"/>
            <a:ext cx="4775040" cy="2963880"/>
          </a:xfrm>
          <a:prstGeom prst="rect">
            <a:avLst/>
          </a:prstGeom>
          <a:ln w="0">
            <a:noFill/>
          </a:ln>
        </p:spPr>
      </p:pic>
      <p:sp>
        <p:nvSpPr>
          <p:cNvPr id="62" name="3 CuadroTexto"/>
          <p:cNvSpPr/>
          <p:nvPr/>
        </p:nvSpPr>
        <p:spPr>
          <a:xfrm>
            <a:off x="571680" y="3929040"/>
            <a:ext cx="814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The watch was/got lost at the S.A. conc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The computer is being used at the mo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214200" y="3357720"/>
            <a:ext cx="38577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9:29:25Z</dcterms:created>
  <dc:creator>Lisa</dc:creator>
  <dc:description/>
  <dc:language>en-US</dc:language>
  <cp:lastModifiedBy>Lisa</cp:lastModifiedBy>
  <dcterms:modified xsi:type="dcterms:W3CDTF">2010-05-21T15:20:49Z</dcterms:modified>
  <cp:revision>44</cp:revision>
  <dc:subject/>
  <dc:title>The Passive</dc:title>
</cp:coreProperties>
</file>