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6F47-8359-41C8-A4AC-14E58D22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607-7DD4-4E7E-BD4A-BA56280B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1B5-96E9-418F-8440-4DF2AFE3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A2F-A89E-40FC-A0E8-265B5342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56F-80F7-4AA7-B4D5-2A46EE4F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ADF-53E7-4EB9-9A75-2A48C614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EB5-C6A9-4877-971B-AC1C875D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122-A754-4976-B535-580AE3FD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833-621D-47B1-A222-C03E0B1B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863-38D6-4497-B587-B4F85A18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629-9B96-4C99-BDFC-AE096F06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7F0-94C5-4AF7-BA6E-4361DA02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0BF2-E8F7-4DD1-B51A-78D30FD4100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Pass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" y="1499760"/>
            <a:ext cx="514368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1. They are building a new highway around the 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2. They have built a new hospital near the air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857920" y="2071800"/>
            <a:ext cx="304308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285840" y="2000160"/>
            <a:ext cx="864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When we got to the stadium, we found that the game had been cance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 new highway is being built (by them*) around 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 new hospital has been built near the air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57120" y="10000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When we got to the stad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found that they had cancelled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497196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3. Diana and Alba didn’t realise that somebody was recording their conversation.</a:t>
            </a: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They didn’t realise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3928680"/>
            <a:ext cx="8472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dier was writing a message on Patricio’s Facebook wall when Sergey call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5. Will Alba buy the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Hellowe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Limited Edition album this weeke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572080" y="28584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71" name="4 CuadroTexto"/>
          <p:cNvSpPr/>
          <p:nvPr/>
        </p:nvSpPr>
        <p:spPr>
          <a:xfrm>
            <a:off x="3500280" y="57168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... that their conversation was being recor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 CuadroTexto"/>
          <p:cNvSpPr/>
          <p:nvPr/>
        </p:nvSpPr>
        <p:spPr>
          <a:xfrm>
            <a:off x="285840" y="3786120"/>
            <a:ext cx="864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Sergey called when a message was being written (by Edier) on Patricio’s Facebook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504d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Sergey called when Patricio’s Facebook wall was being written by Ed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Will the </a:t>
            </a:r>
            <a:r>
              <a:rPr b="0" i="1" lang="en-GB" sz="2000" spc="-1" strike="noStrike">
                <a:solidFill>
                  <a:srgbClr val="0070c0"/>
                </a:solidFill>
                <a:latin typeface="Arial"/>
              </a:rPr>
              <a:t>Helloween Limited Edition </a:t>
            </a: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lbum be bought by Alba this week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6 -0.00925 L -0.13681 -0.25856 E">
                                      <p:cBhvr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6615 L -0.00017 -0.39917 E">
                                      <p:cBhvr>
                                        <p:cTn id="104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66235E-006 L 2.5E-006 -0.33302 E">
                                      <p:cBhvr>
                                        <p:cTn id="10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ad the sentence and choose the option which best fits the space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Concert tickets ……….. at the box offi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being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are being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are be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are being s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Following yesterday's accident, 3 people are still ………………. for minor inju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tre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being trea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trea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being tre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Your suit is not ready yet. It ………….. right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is being clea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is being clea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is been clea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is clea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I could not use my car yesterday because it 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was being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were being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was being repai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was been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He left the room while the money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. has being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. was been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. was being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. was being colle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We couldn't use the bathroom while it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. was been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. was being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. is being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. was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entence completion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the words in red to complete the passive continuous sentenc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2 words in each box which you do not need to u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15717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I couldn't wear my T-shirt yesterday because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leaned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wa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t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lean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My brother is in hospital - ... for a chest infe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has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reat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reate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... for the new restaur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taken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reservation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ak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ar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is   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... taken online by students all over the wor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hi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it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cours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. We had to stay in a hotel while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our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wa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ous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  ha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decorated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. ... about the missing blackboar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was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student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hre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are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questione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question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Rewrite these sentences. Instead of using somebody/they/people, etc., write a passive sentence.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600200"/>
            <a:ext cx="81439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0. Somebody cleans the room every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. Cristina has cleaned her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 They cancelled all flights because of the volcano ash clou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              </a:t>
            </a: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All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894200" y="4000680"/>
            <a:ext cx="3821040" cy="2550960"/>
          </a:xfrm>
          <a:prstGeom prst="rect">
            <a:avLst/>
          </a:prstGeom>
          <a:ln w="0">
            <a:noFill/>
          </a:ln>
        </p:spPr>
      </p:pic>
      <p:sp>
        <p:nvSpPr>
          <p:cNvPr id="56" name="4 CuadroTexto"/>
          <p:cNvSpPr/>
          <p:nvPr/>
        </p:nvSpPr>
        <p:spPr>
          <a:xfrm>
            <a:off x="928800" y="4214880"/>
            <a:ext cx="728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The room is cleaned every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The room has been cleaned by Crist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ll flights were cancelled because of the volcano ash cl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6840" y="857160"/>
            <a:ext cx="43290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. People don’t use this road very of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4. Somebody accused me of stealing money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5. How do people learn languages? </a:t>
            </a: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Ho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6. Our mothers warned us not to go out al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929120" y="2571840"/>
            <a:ext cx="3890880" cy="3130560"/>
          </a:xfrm>
          <a:prstGeom prst="rect">
            <a:avLst/>
          </a:prstGeom>
          <a:ln w="0">
            <a:noFill/>
          </a:ln>
        </p:spPr>
      </p:pic>
      <p:sp>
        <p:nvSpPr>
          <p:cNvPr id="59" name="4 CuadroTexto"/>
          <p:cNvSpPr/>
          <p:nvPr/>
        </p:nvSpPr>
        <p:spPr>
          <a:xfrm>
            <a:off x="3357720" y="1357200"/>
            <a:ext cx="6000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This road isn’t used very of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I was accused (by somebody)of stealing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How are languages lear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We were warned by our mothers not to go out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85880" y="999720"/>
            <a:ext cx="81439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7. Gerard lost his watch at the Soziedad Alkoholika conce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8. Somebody is using the computer at the mo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The comput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368960" y="3894120"/>
            <a:ext cx="4775040" cy="2963880"/>
          </a:xfrm>
          <a:prstGeom prst="rect">
            <a:avLst/>
          </a:prstGeom>
          <a:ln w="0">
            <a:noFill/>
          </a:ln>
        </p:spPr>
      </p:pic>
      <p:sp>
        <p:nvSpPr>
          <p:cNvPr id="62" name="3 CuadroTexto"/>
          <p:cNvSpPr/>
          <p:nvPr/>
        </p:nvSpPr>
        <p:spPr>
          <a:xfrm>
            <a:off x="571680" y="3929040"/>
            <a:ext cx="814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watch was/got lost at the S.A. conc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computer is being used at the mo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214200" y="3357720"/>
            <a:ext cx="38577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9:29:25Z</dcterms:created>
  <dc:creator>Lisa</dc:creator>
  <dc:description/>
  <dc:language>en-US</dc:language>
  <cp:lastModifiedBy>Lisa</cp:lastModifiedBy>
  <dcterms:modified xsi:type="dcterms:W3CDTF">2010-05-21T15:20:49Z</dcterms:modified>
  <cp:revision>44</cp:revision>
  <dc:subject/>
  <dc:title>The Passive</dc:title>
</cp:coreProperties>
</file>