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18B-9B84-4968-86C7-5CA8250B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BC6-8918-4286-94C5-26E0E477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E8A-6AEC-40DA-B8F8-ADABC783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839-1BEE-48E4-8F38-8171FBC6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AE2-131B-4520-9C70-57150570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232-E223-4A58-B996-51DA4B00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7C2-4B04-4412-9BF6-CE1282AE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D91-7153-4B16-9152-23F32B0D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856-8873-4205-BE43-A5B5A553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40A-3660-4136-8320-94E4448C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522-BA8B-431C-A254-5EEA561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3D2-5D05-48D7-82B5-FE9F73DD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4D55-A47D-41F1-8FDB-FA7291959AB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1499760"/>
            <a:ext cx="514368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1. They are building a new highway around the 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2. They have built a new hospital near the air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304308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285840" y="20001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hen we got to the stadium, we found that the game had been cance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ighway is being built (by them*) around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ospital has been built near the air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57120" y="10000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When we got to the stad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found that they had cancelled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97196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3. Diana and Alba didn’t realise that somebody was recording their conversation.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They didn’t realise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3928680"/>
            <a:ext cx="8472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dier was writing a message on Patricio’s Facebook wall when Sergey call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5. Will Alba buy th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ellowe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Limited Edition album this weeke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72080" y="28584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71" name="4 CuadroTexto"/>
          <p:cNvSpPr/>
          <p:nvPr/>
        </p:nvSpPr>
        <p:spPr>
          <a:xfrm>
            <a:off x="3500280" y="57168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... that their conversation was being recor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CuadroTexto"/>
          <p:cNvSpPr/>
          <p:nvPr/>
        </p:nvSpPr>
        <p:spPr>
          <a:xfrm>
            <a:off x="285840" y="378612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a message was being written (by Edier) on Patricio’s Facebook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504d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Patricio’s Facebook wall was being written by Ed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ill the </a:t>
            </a:r>
            <a:r>
              <a:rPr b="0" i="1" lang="en-GB" sz="2000" spc="-1" strike="noStrike">
                <a:solidFill>
                  <a:srgbClr val="0070c0"/>
                </a:solidFill>
                <a:latin typeface="Arial"/>
              </a:rPr>
              <a:t>Helloween Limited Edition </a:t>
            </a: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lbum be bought by Alba this week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6 -0.00925 L -0.13681 -0.25856 E">
                                      <p:cBhvr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6615 L -0.00017 -0.39917 E">
                                      <p:cBhvr>
                                        <p:cTn id="10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6235E-006 L 2.5E-006 -0.33302 E">
                                      <p:cBhvr>
                                        <p:cTn id="10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ad the sentence and choose the option which best fits the space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Concert tickets ……….. at the box off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are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are be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are being s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Following yesterday's accident, 3 people are still ………………. for minor inju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being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being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Your suit is not ready yet. It ………….. right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is being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is being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is been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is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I could not use my car yesterday because it 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was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were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was being repai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was been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He left the room while the money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h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en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w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being col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We couldn't use the bathroom while i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was been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i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ntence completion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the words in red to complete the passive continuous sentenc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2 words in each box which you do not need to 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15717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I couldn't wear my T-shirt yesterday becaus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t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My brother is in hospital - ... for a chest inf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has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rea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reat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... for the new restaur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taken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eservation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ak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s   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... taken online by students all over the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i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cour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We had to stay in a hotel whil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ur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ou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 ha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decorat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. ... about the missing blackbo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s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student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re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Rewrite these sentences. Instead of using somebody/they/people, etc., write a passive sentence.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600200"/>
            <a:ext cx="81439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. Somebody cleans the room every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Cristina has cleaned her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They cancelled all flights because of the volcano ash clou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All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894200" y="4000680"/>
            <a:ext cx="3821040" cy="2550960"/>
          </a:xfrm>
          <a:prstGeom prst="rect">
            <a:avLst/>
          </a:prstGeom>
          <a:ln w="0">
            <a:noFill/>
          </a:ln>
        </p:spPr>
      </p:pic>
      <p:sp>
        <p:nvSpPr>
          <p:cNvPr id="56" name="4 CuadroTexto"/>
          <p:cNvSpPr/>
          <p:nvPr/>
        </p:nvSpPr>
        <p:spPr>
          <a:xfrm>
            <a:off x="928800" y="4214880"/>
            <a:ext cx="728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is cleaned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has been cleaned by Crist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ll flights were cancelled because of the volcano ash cl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857160"/>
            <a:ext cx="4329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. People don’t use this road very of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. Somebody accused me of stealing money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. How do people learn languages?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H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. Our mothers warned us not to go out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29120" y="2571840"/>
            <a:ext cx="3890880" cy="3130560"/>
          </a:xfrm>
          <a:prstGeom prst="rect">
            <a:avLst/>
          </a:prstGeom>
          <a:ln w="0">
            <a:noFill/>
          </a:ln>
        </p:spPr>
      </p:pic>
      <p:sp>
        <p:nvSpPr>
          <p:cNvPr id="59" name="4 CuadroTexto"/>
          <p:cNvSpPr/>
          <p:nvPr/>
        </p:nvSpPr>
        <p:spPr>
          <a:xfrm>
            <a:off x="3357720" y="1357200"/>
            <a:ext cx="600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This road isn’t used very of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I was accused (by somebody)of stealing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How are languages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We were warned by our mothers not to go ou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85880" y="999720"/>
            <a:ext cx="8143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7. Gerard lost his watch at the Soziedad Alkoholika conce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. Somebody is using the computer at the mo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The comput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368960" y="3894120"/>
            <a:ext cx="477504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3 CuadroTexto"/>
          <p:cNvSpPr/>
          <p:nvPr/>
        </p:nvSpPr>
        <p:spPr>
          <a:xfrm>
            <a:off x="571680" y="392904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watch was/got lost at the S.A. conc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computer is being used at the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214200" y="3357720"/>
            <a:ext cx="38577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9:29:25Z</dcterms:created>
  <dc:creator>Lisa</dc:creator>
  <dc:description/>
  <dc:language>en-US</dc:language>
  <cp:lastModifiedBy>Lisa</cp:lastModifiedBy>
  <dcterms:modified xsi:type="dcterms:W3CDTF">2010-05-21T15:20:49Z</dcterms:modified>
  <cp:revision>44</cp:revision>
  <dc:subject/>
  <dc:title>The Passive</dc:title>
</cp:coreProperties>
</file>